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8DEF-97F2-4540-9478-50F842078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DD7A-6DE4-4215-B531-413246272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C72A-4B7E-447C-AAC9-FD173AFE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9A5A-D2B6-44CB-9797-B26355F8B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69E1-3A78-47F0-92AB-C0E67EA3E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F3D15-E140-4595-8C63-AF5D717A4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B7CE5-F04E-4DBE-9C43-A070B916F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74C34-A098-438F-95E3-8F0677DE2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3C3E3-B9F7-4189-943A-C2134A39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634B-3AC2-463B-9799-4DE71785F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FE8B5-C7E5-4435-9458-22F7418E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1B4B-5C12-46CD-AF0C-2A4A3B0B1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BD4AB-126A-4404-9ACF-896BB466B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1CAAD-2A35-4040-878E-6DA66D57A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96A5E-93FF-4D9B-93C1-1B8D1FC8E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F37B6-539A-44F7-BF49-AD57542A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4C52C-EDDB-42E6-8E6F-2E4A8891E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3C11-A1CB-4541-8DB6-EE029AA8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3F9F-5A91-4642-A3C1-F44086038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C6E8-FDD5-4797-8CF8-B4270C272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618A-43E0-43E1-B957-B39C1CE3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1ED4-67AB-4C03-9021-380EC849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359-D2FB-40B0-AAF0-EDAEE980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A8D1-E546-4DC3-866E-D04D32B67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4D86F-98AC-4D9B-AF16-F83BD198919A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6B054-50C9-421D-B36E-3F76862BA406}" type="slidenum">
              <a:rPr b="0" lang="ar-SA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755640" y="404640"/>
            <a:ext cx="7704000" cy="540072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619280" y="1125360"/>
            <a:ext cx="5977080" cy="393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بناء المساكن بين الحاجة والترف .....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ndalus"/>
              </a:rPr>
              <a:t>للشيخ / عبدالسلام برجس -رحمه الله-</a:t>
            </a:r>
            <a:endParaRPr b="1" lang="en-US" sz="96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ndalus"/>
              <a:ea typeface="Andalus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3419640" y="2536920"/>
            <a:ext cx="2160360" cy="141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11280" y="333360"/>
            <a:ext cx="7848360" cy="6048360"/>
          </a:xfrm>
          <a:prstGeom prst="rect">
            <a:avLst/>
          </a:prstGeom>
          <a:gradFill rotWithShape="0">
            <a:gsLst>
              <a:gs pos="0">
                <a:srgbClr val="aa8456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e855b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ية كريمة في سورة الشعراء، استوقفتني كثيراً، فيها عبرة، ونقد، وتوجيه: انها افتتاح الانتقادا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تي وجهها هود –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على نبينا وعليه الصلاة والسلام - الى قومه «عا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 بعد ان دعاهم الى الله، وأمرهم بطاعته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. وتتخذون مصانع لعلكم تخلدون. واذا بطشتم بطشتم جبارين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نه - عليه السلام - ينتقد عبثهم بالبنيان، والعبث بالبنيان: تشييده لمجرد التباهي بالقدرة عليه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رة جسمية في بنائ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عقلية في تصميمه وهندسته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مالية في الانفاق عليه، فهو بناء لغير نفع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في هذا الانتقاد توجيه الى ان الجهد والبراعة وإنفاق المال انما يكون في البناء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ضروري المثمر خير الدين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سداد الدنيا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ذه الآية وجهت الى قوم «عاد» فما نصيبنا منها امة محمد صلى الله عليه وسلم؟ لبيان ذلك انقل أثرين من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آثار سلفنا الصالح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ول: عن مجاهد بن جبر - المتوفى وهو ساجد بمكة المكرمة سنة 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10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ه - حيث قال:«ليس احد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شبه فِعالاً بعاد من ا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ة محمد صلى الله عليه وسلم، قال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«أتبنون بكل ريع آية تعبثون» فقد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والله فعلوا. اخرجه ابن ابي حاتم في «تفسيره» «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9/2794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»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50920" y="260280"/>
            <a:ext cx="8497800" cy="6337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ec85e"/>
              </a:gs>
            </a:gsLst>
            <a:lin ang="13500000"/>
          </a:gra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ثاني: ما أخرجه ابن ابي حاتم - ايضاً - في تفسيره عن عون بن عبدالله بن عتبة، ان ابا الدرداء رضي الله عنه لم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رأى ما احدث المسلمون في الغوطة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ن البنيان، ونصب الشجر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ام في مسجدهم، فنادى: يا اهل دمشق! فاجتمعوا اليه. فحمد الله، واثنى عليه، ثم قال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لا تستحيون الا تستحيون، تجمعون مالا تأكلون، وتبنون مالا تسكنون، وتؤملون مالا تدركون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قد كانت قبلكم قرون يجمعون فيوعون، ويبنون فيوثقون، ويأملون فيطيلون، فأصبح املهم غروراً، وأصبح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جمعهم بوراً، واصبح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ساكنهم قبوراً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لا إن عاداًَ ملكت ما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عدن وعمان خيلاً وركاباً من يشتري مني ميراث عاد بدرهمين؟ففي هذي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اثرين غنى عن التوسع في ا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تعليق عما نعايشه هذه الايام من البناء للتباهي 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 للسكن، ابتداء من شراء الارض، فأجره المهندس، فالنار المحرقة للمال «البناء» فالاثاث المكمل «للديكور»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مهلاً فانا لا اريد إنكار البناء، فهذا لا يقوله احد، انما اريد ان امنع 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بين</a:t>
            </a: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يديك ما جاء به دين الا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وملة محمد عليه الصلاة والسلام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في قضية البناء: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أجمع علماء المسلمين على انه يلزم كل امرىء تحصيل مسكن له، ولمن تلزمه نفقته فمن حصل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مسكناً له ولأهله، ببناء بيت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او اكترائه، فقد سلم من الاثم.</a:t>
            </a:r>
            <a:br>
              <a:rPr sz="1800"/>
            </a:b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كما رغّب الاسلام في سعة البيوت بكبر مساحتها، حيث صحَّ عن النبي صلى الله عليه وسلم ان م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ن سعادة المرء المسك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5e855b"/>
                </a:solidFill>
                <a:latin typeface="Verdana"/>
              </a:rPr>
              <a:t> الواسع وان المسكن الضيق من الشقاء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539640" y="333360"/>
            <a:ext cx="8136000" cy="6191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6600"/>
              </a:gs>
            </a:gsLst>
            <a:lin ang="13500000"/>
          </a:gradFill>
          <a:ln cap="rnd" w="76320">
            <a:solidFill>
              <a:srgbClr val="5e855b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للاسلام موقف واضح من المساكن التي شيدت على اساس التفاخر والتباه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، أوجز ذلك الموقف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الفقرات التالية: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ليس لمن بنى بيتاً من غير حاجة، اوفوق ما يحتاجه، اجر، لما في «الصحيحين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عن خباب بن الارت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رضي الله عنه انه قال وهو يبني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حائطاً له «إن المرء المسلم يؤجر في نفقته كلها، الا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ي شيء يجعله في التراب» ورواه الترمذي مرفوعاً الى النبي صلى الله عليه وسلم من قوله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معنى «في التراب» اي البنيان الذي لم يقصد به وجه الله، وقد زاد على ما يحتاجه لنفسه و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ياله على الوجه اللائق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2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لبناء بهذه الصفة من علامات قرب الساعة، وزوال الدنيا. ودليل ذلك ما رواه البخاري ع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ن ابي هريرة رضي الله عنه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ن رسول الله صلى الله عليه وسلم قال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« لا تقوم الساعة..وحتى يتطاول الناس في البنيان»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وروى البخاري ايضاً في الادب المفرد عن ابي هريرة رضي الله عنه عن النبي صلى الله عليه وسلم انه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قال لا تقوم الساعة حتى يبني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اس بيوتاً يوشُّونها وشي المراحيل»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ومعنى «يوشونها»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68360" y="333360"/>
            <a:ext cx="8280360" cy="525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a8456"/>
              </a:gs>
            </a:gsLst>
            <a:lin ang="13500000"/>
          </a:gradFill>
          <a:ln cap="rnd" w="76320">
            <a:solidFill>
              <a:srgbClr val="eaeaea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ينقشونها ويصبغونها بأنواع الالوان المختلفة كما تنقش الثياب والفرش ومعنى:«المراحيل» الثياب المنقوشة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بنقوش تشبه رحال الابل.</a:t>
            </a:r>
            <a:br>
              <a:rPr sz="1800"/>
            </a:b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3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- اخبر الصادق المصدوق عن حال الذين يبنون للمباهاة بما يردع غرورهم وتعاظمهم،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ففي حديث عمر بن الخطاب،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رضي الله عنه ان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لنبي صلى الله عليه وسلم اخبر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عن علامات الساعة فقال:«وان ترى الحفاة العراة العالة رعاء الشاء يتطاولون في البنيان».قال الحافظ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ابن رجب رحمه الله تعالى _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في جامع العلوم والحكم «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1/137</a:t>
            </a: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» والمراد: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5e855b"/>
                </a:solidFill>
                <a:latin typeface="Verdana"/>
              </a:rPr>
              <a:t> ان اسافل الناس يصيرون رؤساءهم، وتكثر اموالهم، حتى يتباهون بطول البنيان وزخرفته واتقانه.</a:t>
            </a:r>
            <a:br>
              <a:rPr sz="1800"/>
            </a:b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1T13:45:33Z</dcterms:created>
  <dc:creator>user</dc:creator>
  <dc:description/>
  <dc:language>en-US</dc:language>
  <cp:lastModifiedBy>user</cp:lastModifiedBy>
  <dcterms:modified xsi:type="dcterms:W3CDTF">2004-07-11T14:11:37Z</dcterms:modified>
  <cp:revision>6</cp:revision>
  <dc:subject/>
  <dc:title>Slide 1</dc:title>
</cp:coreProperties>
</file>